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4BA-49CA-4576-AF7D-2E365A8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F4B-165F-4F68-946D-0E0512C9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578-1909-4B67-A0B7-BA986975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484-0571-49E0-ABB5-0B086762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7D3B-6794-4744-897D-50556EFA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403-0F5D-42F3-A494-CBD6DCF9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543-2DDD-4247-AB2D-72A3FD1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832-A366-4217-B6D1-C51FF00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F8F-EF10-4B5B-858B-2B2B2B5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CC9-97C6-443A-8CCA-92F2531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0A24-9AEB-4280-B716-24D42DB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DF5-D122-4D97-862B-1B811E1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9CFD-BF73-4130-9BC0-CBEBBF4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446E-A569-4036-A9FB-25EC691C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0EFB-427D-46DE-85FF-948735D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F361-3FF8-4F98-B118-3D91245E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903-BAB8-47C4-950F-6E8C9A71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8C18-1342-433E-9FD2-907D0344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2423-231D-4F4D-9855-020EA65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BEAE-51BA-4AC5-BF66-F04F77C4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D8A8-6B32-4825-AACF-61CA7EB4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D1D4-4E5D-473A-A972-8EF2168D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2DE-7245-402B-8329-E1BF452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0A52-6D71-447F-A22A-E9790DA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7E37-3EE6-42A0-A887-CBCA85A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F52C-362D-456E-951E-B375668D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BD46-B608-4B61-8414-2E5FBE25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BEA9-7BF2-4C28-ACA0-0E6CD2C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ED6C-A1FF-4C5F-8B9B-39CF0A8B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7ED9-85E6-4328-8DB5-687AFA19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62CE-E595-4848-9E49-9214178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DA62-72ED-40D9-A636-2D7322A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D1F1-CB93-49C9-9452-66138B62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AB7-7117-4EB0-86B7-F0F8279F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DBCE-BC45-4665-9FED-124FA70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DDFE-36B4-4901-B755-83DD002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81CD-31A6-493F-9043-BA1697C2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09DB-957F-4A42-8F67-989AED61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441B-70B8-4A43-94C7-13D90CDE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B831-10B3-4803-BE2F-E7F2C6B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F5CD-2251-46C7-8ACE-333374D7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151E-6404-41B0-9FD8-8ACED5B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E76F-F403-491D-9384-765C9982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541-339F-4ED0-A2BD-200D7D5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A73-8DD0-404E-9770-F8087B4A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A55-CF27-4E48-891A-CCA9972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8B1-A3D8-421E-A87D-959FF5D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CB4-B5B2-41A7-880B-D372FA9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D27-1C71-44BB-B911-74C4192AAA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58B-0480-48D5-BC93-C5A81A22FB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55DA-FC61-4970-B5DE-4399F2F1A52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52B-706F-4EAA-B290-7FDD7830DFB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ztest.ru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pm298.ru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559720" cy="264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7120" y="299988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5a839"/>
                </a:solidFill>
                <a:uFillTx/>
                <a:latin typeface="Constantia"/>
              </a:rPr>
              <a:t>Творческое название проекта:</a:t>
            </a:r>
            <a:r>
              <a:rPr b="1" lang="ru-RU" sz="4300" spc="-1" strike="noStrike">
                <a:solidFill>
                  <a:srgbClr val="55a839"/>
                </a:solidFill>
                <a:latin typeface="Constant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Характер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функ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429160" y="47862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уфриев Денис, 142 г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3357720" y="6072120"/>
            <a:ext cx="364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3714840" y="6215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ыктывкар, 2010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1214280" y="2142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Аннотац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571680" y="107172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тематическое моделирование явлений и законов природы приводит к возникновению понятия функции. Часто говорят, что функция есть переменная величина, зависящая от другой переменной величины (аргумент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возникает вопрос,  всегда ли существует эта переменная величина,  какие значения может принимать аргумент, как ведёт себя функция. В жизни возникают моменты, когда требуется решить  какую-нибудь проблему. Мы прибегаем к математике, а  ответ может не совпадать с результатом или даже быть ему противоположным, поскольку  не был учтён тот факт, что в жизни всё не так уж просто, как на бумаг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88400" cy="194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ребуется учесть множество факторов, приблизить математику к жизни и использовать  её правила в быту, именно для этого существует область определения и область значений, такие свойства как чётность, нечётность, периодичность и монотонность. Благодаря им мы можем знать, что некоторые функции не хотят принимать значения, так как это лишает их смысл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аже простейшие правила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нуль делить  нельзя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дуль числа всегда неотрицателен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: может очень сильно повлиять на функция и поменять её в корн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1428840" y="642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Основополагающий вопро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357200" y="1143000"/>
            <a:ext cx="7143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857160" y="13572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ёт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ебя функц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79280" y="249228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чего нужны промежутки и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точ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такое период, и для чего он нужен периодической функции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1547640" y="6206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Вопросы учебной тем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08000" y="1341360"/>
            <a:ext cx="88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чего нужны промежутки и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колотые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точ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значения может принимать аргумент функц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 такое периодичность функц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 значит: функция монотонна, чётная или нечётн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чего зависит функция(зависимая переменная)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39640" y="511020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87026"/>
                </a:solidFill>
                <a:uFillTx/>
                <a:latin typeface="Constantia"/>
              </a:rPr>
              <a:t>Учебный предмет:</a:t>
            </a:r>
            <a:r>
              <a:rPr b="0" lang="ru-RU" sz="2800" spc="-1" strike="noStrike">
                <a:solidFill>
                  <a:srgbClr val="387026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87026"/>
                </a:solidFill>
                <a:uFillTx/>
                <a:latin typeface="Constantia"/>
              </a:rPr>
              <a:t>Участники:</a:t>
            </a:r>
            <a:r>
              <a:rPr b="0" lang="ru-RU" sz="28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8-е класс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571680" y="3571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Дидактические цели проек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642960" y="135720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Научить ориентироваться в «море»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Сформировать навыки самостоятельной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Сформировать навыки командной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42960" y="28576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a839"/>
                </a:solidFill>
                <a:uFillTx/>
                <a:latin typeface="Constantia"/>
              </a:rPr>
              <a:t>Методические задачи проек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00040" y="385776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делить и сформулировать понятие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ункция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формулировать понятия и выработать правила и навыки нахождения области определения и области значений функ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вить понимание и выработать понятия: монотонность, периодичность, чётность и нечётность функ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Научить пользоваться программой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ahoma"/>
              </a:rPr>
              <a:t>Power-Poin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ahoma"/>
              </a:rPr>
              <a:t>Publisher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1357200" y="3571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a839"/>
                </a:solidFill>
                <a:uFillTx/>
                <a:latin typeface="Constantia"/>
              </a:rPr>
              <a:t>Этапы и сроки проведения проек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85880" y="1357200"/>
            <a:ext cx="73580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Подготовительный этап: (2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зговой штур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постановка проблемы, выдвижение первоначальных гипотез, формирование тем исследований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пределение учеников по группам, составление индивидуального плана работ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суждение возможных источников информации и защиты авторских пра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Этап обучения(3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ультации по выполнению зад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рректировка планов, гипотез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движение  предварительных результа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Заключительный этап: (2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формление результатов в виде презентации и букле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а самостоятельных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суждение результатов проек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флексия участников проек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1143000" y="57168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a839"/>
                </a:solidFill>
                <a:latin typeface="Constantia"/>
              </a:rPr>
              <a:t>Результаты представления исследов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357200" y="1500120"/>
            <a:ext cx="657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– результаты исслед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уклет – интересные и занимательные фак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ические материал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исок используемой литературы и адреса интернет-сай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857160" y="4287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Рекомендуемая литерату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57160" y="1285920"/>
            <a:ext cx="707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гебра 8 класс. Макарычев Ю. 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uztest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pm298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0:22:22Z</dcterms:created>
  <dc:creator>NITRO</dc:creator>
  <dc:description/>
  <dc:language>en-US</dc:language>
  <cp:lastModifiedBy>Admin</cp:lastModifiedBy>
  <dcterms:modified xsi:type="dcterms:W3CDTF">2010-05-30T12:05:27Z</dcterms:modified>
  <cp:revision>35</cp:revision>
  <dc:subject/>
  <dc:title>Слайд 1</dc:title>
</cp:coreProperties>
</file>